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F153C-4C74-4475-A6EE-B798AE3EF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A2219-C6CC-4E47-A00F-5A7CB0E0F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AB91E-07E1-476E-879A-804A9249E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902E2-B817-4C2E-BF25-F1382157B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7310D-B520-4C0A-BC63-08A0F565C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B2C43-3CF1-49C1-B7C3-6D2CDCC62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640FC-429D-4D94-91A0-A77311E20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CDCD2-421C-4579-9EEB-34E85D10D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DAC48-5D81-4C37-A9A9-CCB30066C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BB809-1C43-4025-820D-B4691F9A2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DFD8A-4E1E-4EB5-8D7B-BEA855689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037C9-323D-42D8-B96D-F0B56BFA7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CB126-6C9E-4C4C-A324-2860CD7D15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1856520"/>
            <a:ext cx="7921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Bonjour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826920" y="475200"/>
            <a:ext cx="194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onjour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7640" y="692280"/>
            <a:ext cx="345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u revoi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995640" y="1394640"/>
            <a:ext cx="4033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omment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ça va?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287600" y="3656160"/>
            <a:ext cx="2606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onne nui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24000" y="4940640"/>
            <a:ext cx="431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Salut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779200" y="5084640"/>
            <a:ext cx="5811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omment t’appelles-tu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53520" y="2781360"/>
            <a:ext cx="4251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Ça va bien, merc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23320" y="2781360"/>
            <a:ext cx="2021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Bonsoi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042920" y="907920"/>
            <a:ext cx="626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11280" y="1794960"/>
            <a:ext cx="7921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Au revoir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611280" y="1855080"/>
            <a:ext cx="7921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8000" spc="-1" strike="noStrike">
                <a:solidFill>
                  <a:srgbClr val="000000"/>
                </a:solidFill>
                <a:latin typeface="Comic Sans MS"/>
              </a:rPr>
              <a:t>Bonsoir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11280" y="1855080"/>
            <a:ext cx="7921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8000" spc="-1" strike="noStrike">
                <a:solidFill>
                  <a:srgbClr val="000000"/>
                </a:solidFill>
                <a:latin typeface="Comic Sans MS"/>
              </a:rPr>
              <a:t>Bonne nuit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692360" y="2060640"/>
            <a:ext cx="18396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0440" y="1700280"/>
            <a:ext cx="8795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Comment ça va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692360" y="2060640"/>
            <a:ext cx="18396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619280" y="2276640"/>
            <a:ext cx="18396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563640" y="1844640"/>
            <a:ext cx="2801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Salut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611280" y="1917720"/>
            <a:ext cx="792144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08440" y="907920"/>
            <a:ext cx="70891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Comment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t’appelles-tu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11280" y="1917720"/>
            <a:ext cx="792144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09520" y="1268280"/>
            <a:ext cx="91328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Ça va bien, merci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4360" y="-1602720"/>
            <a:ext cx="2087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Bonjou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325080" y="0"/>
            <a:ext cx="3457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Ça va bien, merc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356000" y="-175644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u revoir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9468000" y="3933720"/>
            <a:ext cx="4465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ment ça va?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-757080" y="7173000"/>
            <a:ext cx="431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Bonne nuit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358400" y="7256520"/>
            <a:ext cx="2021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Bonsoi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-6300720" y="2060640"/>
            <a:ext cx="606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omment t’appelles-tu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-5869080" y="5084640"/>
            <a:ext cx="563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Salu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" dur="20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" dur="20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" dur="20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20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" dur="20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20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" dur="20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20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2" presetSubtype="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0" dur="20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20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2" presetSubtype="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6" dur="20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20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2" dur="20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20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0T20:45:05Z</dcterms:created>
  <dc:creator>Helen</dc:creator>
  <dc:description/>
  <dc:language>en-US</dc:language>
  <cp:lastModifiedBy>Helen</cp:lastModifiedBy>
  <dcterms:modified xsi:type="dcterms:W3CDTF">2010-04-23T08:28:04Z</dcterms:modified>
  <cp:revision>13</cp:revision>
  <dc:subject/>
  <dc:title>Slide 1</dc:title>
</cp:coreProperties>
</file>